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9C5-3425-4ACE-8435-6E9061FA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581-8FB5-4B19-9DC9-580F7EE7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8E1-B897-4BDC-94F5-65838E82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4FD-9469-4CC3-BA6B-0BA12159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9DC0E-8C8B-407B-BE2D-54C4A837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CEACB-435F-43FA-8B89-0844D51F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DAB3B-FD03-4B71-BD07-FB6E645C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D2FA3-0EBA-4DDA-A1BF-9E3E22DA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F0155-BE93-40F2-9ACA-E35BBA37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A7DA5-98F2-4BE4-B74D-B31CD2C0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C1F67-21E7-4FA6-81DF-CB0230C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A56-955A-4469-BC64-9DA7249C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6D6A1-2F70-4B35-AC57-5CD848F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84415-5D13-4AE9-9D21-74A9FF67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788FE-1C6A-4439-8015-56C8CC7C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810D-C226-43CF-9132-B0F94ED3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14047-C508-4DD4-8F48-F314A4C5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FABE-26A6-4246-8B86-6B5B4961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4968-6A49-4AB2-8A4B-16176C1D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EDCC-7E89-4377-BDCD-88B66F21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F166-7E69-4AF0-B1F0-FEB2827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B6D1-55AC-497B-BE7F-1476FF7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222-CCC1-43EB-BA7F-4F6AEFFF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D69D-0238-48D5-933F-5834C9F0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9A2E-BD3C-4762-8C4C-FEE737DA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6FD9-C295-4C70-9472-AD8741DB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D52D-A1C7-439D-B4D0-7E27AD3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F8DE-138B-49AF-BE58-6BE19CD1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CC6F-A507-4134-9C95-9E990E0B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2FD2-C56A-4CBA-9545-2DF29F83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C2DC5-5836-4CB6-9724-027C2FDD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CA94D-D17B-4E53-91C3-E234203E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27DC7-9930-4FFF-BB2E-FAAD42F6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3EF-8F2B-4EF9-B037-92B5A06C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AB74E-D875-4AF8-A9E3-B3DF9D8A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15BC4-FD01-4B74-90AC-F3274885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DE495-C7FC-483F-BBFE-01FDF170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9F366-7A23-4BA7-BB24-1A01AE9E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1A160-13DA-4CD9-90FC-0B3A1C35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DCF00-11C9-47A5-B9BF-6CB73F32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5B8D6-9D9F-4D62-A4E0-60AA3D2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6592F-EE19-4EB3-81D3-F1FC2EBF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9EACB-C8A0-4D95-8EC3-390C4709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C47-D3A7-43C6-9780-3FDC2BA6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44C-64BF-43A0-88C0-202E6731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AFF-22FC-408F-B77D-F7264146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88A-DD6D-4B43-9659-1D62E1B0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BA9-D7F5-4F49-9968-71918A0C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4e7ed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E488-30DB-4127-9E24-2A1471F3E690}" type="slidenum">
              <a:rPr b="0" lang="es-ES" sz="1600" spc="-1" strike="noStrike">
                <a:solidFill>
                  <a:srgbClr val="f4e7e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81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4e7ed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1165-6899-40B0-B116-9DDAC86DFCA0}" type="slidenum">
              <a:rPr b="0" lang="es-ES" sz="1600" spc="-1" strike="noStrike">
                <a:solidFill>
                  <a:srgbClr val="f4e7e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4e7ed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FF5B-011F-4E15-A58E-C82F198C1DC7}" type="slidenum">
              <a:rPr b="0" lang="es-ES" sz="1600" spc="-1" strike="noStrike">
                <a:solidFill>
                  <a:srgbClr val="f4e7e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4e7ed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D98-3787-4F6A-AA35-F1C1809E5F7F}" type="slidenum">
              <a:rPr b="0" lang="es-ES" sz="1600" spc="-1" strike="noStrike">
                <a:solidFill>
                  <a:srgbClr val="f4e7e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anderA CANADA"/>
          <p:cNvPicPr/>
          <p:nvPr/>
        </p:nvPicPr>
        <p:blipFill>
          <a:blip r:embed="rId1"/>
          <a:stretch/>
        </p:blipFill>
        <p:spPr>
          <a:xfrm>
            <a:off x="971640" y="907920"/>
            <a:ext cx="5688000" cy="4795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 rot="5400000">
            <a:off x="4370040" y="3371760"/>
            <a:ext cx="6596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AN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QUÉBE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MONTRÉ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autobus"/>
          <p:cNvPicPr/>
          <p:nvPr/>
        </p:nvPicPr>
        <p:blipFill>
          <a:blip r:embed="rId1"/>
          <a:stretch/>
        </p:blipFill>
        <p:spPr>
          <a:xfrm>
            <a:off x="179280" y="765000"/>
            <a:ext cx="2952720" cy="2730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subtes"/>
          <p:cNvPicPr/>
          <p:nvPr/>
        </p:nvPicPr>
        <p:blipFill>
          <a:blip r:embed="rId2"/>
          <a:stretch/>
        </p:blipFill>
        <p:spPr>
          <a:xfrm>
            <a:off x="179280" y="3860640"/>
            <a:ext cx="3888000" cy="2637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3"/>
          <p:cNvSpPr/>
          <p:nvPr/>
        </p:nvSpPr>
        <p:spPr>
          <a:xfrm>
            <a:off x="826920" y="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ffff"/>
                </a:solidFill>
                <a:uFillTx/>
                <a:latin typeface="Verdana"/>
              </a:rPr>
              <a:t>TRANSPOR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10 CuadroTexto"/>
          <p:cNvSpPr/>
          <p:nvPr/>
        </p:nvSpPr>
        <p:spPr>
          <a:xfrm>
            <a:off x="722160" y="328464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Autob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11 CuadroTexto"/>
          <p:cNvSpPr/>
          <p:nvPr/>
        </p:nvSpPr>
        <p:spPr>
          <a:xfrm>
            <a:off x="2927160" y="633420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Métr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11" descr="C:\Documents and Settings\Usuario\Escritorio\Taxi.jpg"/>
          <p:cNvPicPr/>
          <p:nvPr/>
        </p:nvPicPr>
        <p:blipFill>
          <a:blip r:embed="rId3"/>
          <a:stretch/>
        </p:blipFill>
        <p:spPr>
          <a:xfrm>
            <a:off x="5219640" y="189000"/>
            <a:ext cx="3705120" cy="2469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via"/>
          <p:cNvPicPr/>
          <p:nvPr/>
        </p:nvPicPr>
        <p:blipFill>
          <a:blip r:embed="rId4"/>
          <a:stretch/>
        </p:blipFill>
        <p:spPr>
          <a:xfrm>
            <a:off x="2916360" y="1844640"/>
            <a:ext cx="4103640" cy="2521080"/>
          </a:xfrm>
          <a:prstGeom prst="rect">
            <a:avLst/>
          </a:prstGeom>
          <a:ln w="0">
            <a:noFill/>
          </a:ln>
        </p:spPr>
      </p:pic>
      <p:sp>
        <p:nvSpPr>
          <p:cNvPr id="220" name="15 CuadroTexto"/>
          <p:cNvSpPr/>
          <p:nvPr/>
        </p:nvSpPr>
        <p:spPr>
          <a:xfrm>
            <a:off x="7972920" y="2637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Tax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17 CuadroTexto"/>
          <p:cNvSpPr/>
          <p:nvPr/>
        </p:nvSpPr>
        <p:spPr>
          <a:xfrm>
            <a:off x="3431880" y="134136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Tr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5" descr="Aeropuerto-Internacional-Pierre-Elliott-Trudeau"/>
          <p:cNvPicPr/>
          <p:nvPr/>
        </p:nvPicPr>
        <p:blipFill>
          <a:blip r:embed="rId5"/>
          <a:stretch/>
        </p:blipFill>
        <p:spPr>
          <a:xfrm>
            <a:off x="4859280" y="3789360"/>
            <a:ext cx="4070520" cy="2714760"/>
          </a:xfrm>
          <a:prstGeom prst="rect">
            <a:avLst/>
          </a:prstGeom>
          <a:ln w="0">
            <a:noFill/>
          </a:ln>
        </p:spPr>
      </p:pic>
      <p:sp>
        <p:nvSpPr>
          <p:cNvPr id="223" name="19 CuadroTexto"/>
          <p:cNvSpPr/>
          <p:nvPr/>
        </p:nvSpPr>
        <p:spPr>
          <a:xfrm>
            <a:off x="5066280" y="6334200"/>
            <a:ext cx="39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Aéroport Internat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3276720" y="24210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ffffff"/>
                </a:solidFill>
                <a:latin typeface="Bradley Hand ITC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6"/>
          <p:cNvSpPr/>
          <p:nvPr/>
        </p:nvSpPr>
        <p:spPr>
          <a:xfrm>
            <a:off x="5292720" y="443700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43640" y="692280"/>
            <a:ext cx="43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Verdana"/>
              </a:rPr>
              <a:t>CANAD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5" descr="C:\Documents and Settings\Usuario\Escritorio\Amerique.jpg"/>
          <p:cNvPicPr/>
          <p:nvPr/>
        </p:nvPicPr>
        <p:blipFill>
          <a:blip r:embed="rId1"/>
          <a:stretch/>
        </p:blipFill>
        <p:spPr>
          <a:xfrm>
            <a:off x="539640" y="189000"/>
            <a:ext cx="5472360" cy="642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canada-toronto-l2"/>
          <p:cNvPicPr/>
          <p:nvPr/>
        </p:nvPicPr>
        <p:blipFill>
          <a:blip r:embed="rId1"/>
          <a:stretch/>
        </p:blipFill>
        <p:spPr>
          <a:xfrm>
            <a:off x="0" y="3213000"/>
            <a:ext cx="4662360" cy="3645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anada 2"/>
          <p:cNvPicPr/>
          <p:nvPr/>
        </p:nvPicPr>
        <p:blipFill>
          <a:blip r:embed="rId2"/>
          <a:stretch/>
        </p:blipFill>
        <p:spPr>
          <a:xfrm>
            <a:off x="4290840" y="0"/>
            <a:ext cx="4853160" cy="3502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ANADA 1"/>
          <p:cNvPicPr/>
          <p:nvPr/>
        </p:nvPicPr>
        <p:blipFill>
          <a:blip r:embed="rId3"/>
          <a:stretch/>
        </p:blipFill>
        <p:spPr>
          <a:xfrm>
            <a:off x="0" y="0"/>
            <a:ext cx="4362480" cy="3273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ANADA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Documents and Settings\Usuario\Escritorio\6f1c293g.jpg"/>
          <p:cNvPicPr/>
          <p:nvPr/>
        </p:nvPicPr>
        <p:blipFill>
          <a:blip r:embed="rId1"/>
          <a:stretch/>
        </p:blipFill>
        <p:spPr>
          <a:xfrm>
            <a:off x="2124000" y="476280"/>
            <a:ext cx="6624720" cy="5835600"/>
          </a:xfrm>
          <a:prstGeom prst="rect">
            <a:avLst/>
          </a:prstGeom>
          <a:ln w="0">
            <a:noFill/>
          </a:ln>
        </p:spPr>
      </p:pic>
      <p:pic>
        <p:nvPicPr>
          <p:cNvPr id="180" name="5 CuadroTexto" descr=""/>
          <p:cNvPicPr/>
          <p:nvPr/>
        </p:nvPicPr>
        <p:blipFill>
          <a:blip r:embed="rId2"/>
          <a:stretch/>
        </p:blipFill>
        <p:spPr>
          <a:xfrm>
            <a:off x="390600" y="396720"/>
            <a:ext cx="1882800" cy="5918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city montrea"/>
          <p:cNvPicPr/>
          <p:nvPr/>
        </p:nvPicPr>
        <p:blipFill>
          <a:blip r:embed="rId1"/>
          <a:srcRect l="4337" t="0" r="0" b="0"/>
          <a:stretch/>
        </p:blipFill>
        <p:spPr>
          <a:xfrm>
            <a:off x="0" y="3933720"/>
            <a:ext cx="5545080" cy="2924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invierno montreal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3862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city-of-montreal"/>
          <p:cNvPicPr/>
          <p:nvPr/>
        </p:nvPicPr>
        <p:blipFill>
          <a:blip r:embed="rId3"/>
          <a:stretch/>
        </p:blipFill>
        <p:spPr>
          <a:xfrm>
            <a:off x="0" y="0"/>
            <a:ext cx="5329080" cy="399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city_montreal"/>
          <p:cNvPicPr/>
          <p:nvPr/>
        </p:nvPicPr>
        <p:blipFill>
          <a:blip r:embed="rId4"/>
          <a:stretch/>
        </p:blipFill>
        <p:spPr>
          <a:xfrm>
            <a:off x="5292720" y="3860640"/>
            <a:ext cx="3851280" cy="304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9"/>
          <p:cNvSpPr/>
          <p:nvPr/>
        </p:nvSpPr>
        <p:spPr>
          <a:xfrm>
            <a:off x="324000" y="551664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Verdana"/>
              </a:rPr>
              <a:t>GASTRONOMI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C:\Documents and Settings\Usuario\Escritorio\poutine.jpg"/>
          <p:cNvPicPr/>
          <p:nvPr/>
        </p:nvPicPr>
        <p:blipFill>
          <a:blip r:embed="rId1"/>
          <a:stretch/>
        </p:blipFill>
        <p:spPr>
          <a:xfrm rot="21445200">
            <a:off x="398520" y="506520"/>
            <a:ext cx="4575240" cy="3430440"/>
          </a:xfrm>
          <a:prstGeom prst="rect">
            <a:avLst/>
          </a:prstGeom>
          <a:ln w="0">
            <a:noFill/>
          </a:ln>
        </p:spPr>
      </p:pic>
      <p:sp>
        <p:nvSpPr>
          <p:cNvPr id="187" name="9 CuadroTexto"/>
          <p:cNvSpPr/>
          <p:nvPr/>
        </p:nvSpPr>
        <p:spPr>
          <a:xfrm>
            <a:off x="900000" y="443700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POUT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24"/>
          <p:cNvSpPr/>
          <p:nvPr/>
        </p:nvSpPr>
        <p:spPr>
          <a:xfrm rot="19798800">
            <a:off x="2738160" y="4185720"/>
            <a:ext cx="1446120" cy="540000"/>
          </a:xfrm>
          <a:custGeom>
            <a:avLst/>
            <a:gdLst>
              <a:gd name="textAreaLeft" fmla="*/ 222840 w 1446120"/>
              <a:gd name="textAreaRight" fmla="*/ 1038600 w 144612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61" hR="21600" stAng="10800000" swAng="-5400000"/>
                <a:lnTo>
                  <a:pt x="12180" y="21600"/>
                </a:lnTo>
                <a:arcTo wR="6661" hR="21600" stAng="5400000" swAng="-2465626"/>
                <a:lnTo>
                  <a:pt x="21219" y="7200"/>
                </a:lnTo>
                <a:lnTo>
                  <a:pt x="16081" y="0"/>
                </a:lnTo>
                <a:lnTo>
                  <a:pt x="10180" y="7200"/>
                </a:lnTo>
                <a:lnTo>
                  <a:pt x="12940" y="7200"/>
                </a:lnTo>
                <a:arcTo wR="6661" hR="21600" stAng="2934374" swAng="1986206"/>
                <a:lnTo>
                  <a:pt x="9420" y="19659"/>
                </a:lnTo>
                <a:arcTo wR="6661" hR="21600" stAng="5879419" swAng="4920581"/>
                <a:close/>
              </a:path>
              <a:path fill="darkenLess" w="21600" h="21600">
                <a:moveTo>
                  <a:pt x="0" y="0"/>
                </a:moveTo>
                <a:arcTo wR="6661" hR="21600" stAng="10800000" swAng="-5400000"/>
                <a:lnTo>
                  <a:pt x="12180" y="21600"/>
                </a:lnTo>
                <a:arcTo wR="6661" hR="21600" stAng="5400000" swAng="479419"/>
                <a:lnTo>
                  <a:pt x="9420" y="19659"/>
                </a:lnTo>
                <a:arcTo wR="6661" hR="21600" stAng="5879419" swAng="4920581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24"/>
          <p:cNvSpPr/>
          <p:nvPr/>
        </p:nvSpPr>
        <p:spPr>
          <a:xfrm flipH="1" flipV="1" rot="19798800">
            <a:off x="5314320" y="1325160"/>
            <a:ext cx="1512720" cy="495360"/>
          </a:xfrm>
          <a:custGeom>
            <a:avLst/>
            <a:gdLst>
              <a:gd name="textAreaLeft" fmla="*/ 251280 w 1512720"/>
              <a:gd name="textAreaRight" fmla="*/ 1092600 w 1512720"/>
              <a:gd name="textAreaTop" fmla="*/ 66240 h 495360"/>
              <a:gd name="textAreaBottom" fmla="*/ 4291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73" hR="21600" stAng="10800000" swAng="-5400000"/>
                <a:lnTo>
                  <a:pt x="12009" y="21600"/>
                </a:lnTo>
                <a:arcTo wR="7173" hR="21600" stAng="5400000" swAng="-2592385"/>
                <a:lnTo>
                  <a:pt x="21190" y="7200"/>
                </a:lnTo>
                <a:lnTo>
                  <a:pt x="16764" y="0"/>
                </a:lnTo>
                <a:lnTo>
                  <a:pt x="11518" y="7200"/>
                </a:lnTo>
                <a:lnTo>
                  <a:pt x="13936" y="7200"/>
                </a:lnTo>
                <a:arcTo wR="7173" hR="21600" stAng="2807615" swAng="2185534"/>
                <a:lnTo>
                  <a:pt x="9591" y="20336"/>
                </a:lnTo>
                <a:arcTo wR="7173" hR="21600" stAng="5806851" swAng="4993149"/>
                <a:close/>
              </a:path>
              <a:path fill="darkenLess" w="21600" h="21600">
                <a:moveTo>
                  <a:pt x="0" y="0"/>
                </a:moveTo>
                <a:arcTo wR="7173" hR="21600" stAng="10800000" swAng="-5400000"/>
                <a:lnTo>
                  <a:pt x="12009" y="21600"/>
                </a:lnTo>
                <a:arcTo wR="7173" hR="21600" stAng="5400000" swAng="406851"/>
                <a:lnTo>
                  <a:pt x="9591" y="20336"/>
                </a:lnTo>
                <a:arcTo wR="7173" hR="21600" stAng="5806851" swAng="4993149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13 CuadroTexto"/>
          <p:cNvSpPr/>
          <p:nvPr/>
        </p:nvSpPr>
        <p:spPr>
          <a:xfrm>
            <a:off x="6886440" y="112536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GUÉDIL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9" descr="C:\Documents and Settings\Usuario\Escritorio\Homard2 016 (1).jpg"/>
          <p:cNvPicPr/>
          <p:nvPr/>
        </p:nvPicPr>
        <p:blipFill>
          <a:blip r:embed="rId2"/>
          <a:stretch/>
        </p:blipFill>
        <p:spPr>
          <a:xfrm rot="543000">
            <a:off x="4718160" y="2442960"/>
            <a:ext cx="4203720" cy="315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Rectángulo"/>
          <p:cNvSpPr/>
          <p:nvPr/>
        </p:nvSpPr>
        <p:spPr>
          <a:xfrm>
            <a:off x="684360" y="1268280"/>
            <a:ext cx="7632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ffffff"/>
                </a:solidFill>
                <a:latin typeface="Verdana"/>
              </a:rPr>
              <a:t>Quoi faire à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ffffff"/>
                </a:solidFill>
                <a:latin typeface="Verdana"/>
              </a:rPr>
              <a:t>Montréal?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916360" y="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5" descr="biadome 1"/>
          <p:cNvPicPr/>
          <p:nvPr/>
        </p:nvPicPr>
        <p:blipFill>
          <a:blip r:embed="rId1"/>
          <a:stretch/>
        </p:blipFill>
        <p:spPr>
          <a:xfrm>
            <a:off x="611280" y="1125360"/>
            <a:ext cx="4017960" cy="2714760"/>
          </a:xfrm>
          <a:prstGeom prst="rect">
            <a:avLst/>
          </a:prstGeom>
          <a:ln w="0">
            <a:noFill/>
          </a:ln>
        </p:spPr>
      </p:pic>
      <p:sp>
        <p:nvSpPr>
          <p:cNvPr id="195" name="6 CuadroTexto"/>
          <p:cNvSpPr/>
          <p:nvPr/>
        </p:nvSpPr>
        <p:spPr>
          <a:xfrm>
            <a:off x="497520" y="40053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Biôdo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4" descr="planetarium de"/>
          <p:cNvPicPr/>
          <p:nvPr/>
        </p:nvPicPr>
        <p:blipFill>
          <a:blip r:embed="rId2"/>
          <a:stretch/>
        </p:blipFill>
        <p:spPr>
          <a:xfrm>
            <a:off x="5867280" y="189000"/>
            <a:ext cx="3083040" cy="3065400"/>
          </a:xfrm>
          <a:prstGeom prst="rect">
            <a:avLst/>
          </a:prstGeom>
          <a:ln w="0">
            <a:noFill/>
          </a:ln>
        </p:spPr>
      </p:pic>
      <p:sp>
        <p:nvSpPr>
          <p:cNvPr id="197" name="8 CuadroTexto"/>
          <p:cNvSpPr/>
          <p:nvPr/>
        </p:nvSpPr>
        <p:spPr>
          <a:xfrm>
            <a:off x="324000" y="260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Verdana"/>
              </a:rPr>
              <a:t>MUSÉ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9 CuadroTexto"/>
          <p:cNvSpPr/>
          <p:nvPr/>
        </p:nvSpPr>
        <p:spPr>
          <a:xfrm>
            <a:off x="6925680" y="34290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lanétari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8" descr="centre-d-exposition-la-prison-des-patriotes"/>
          <p:cNvPicPr/>
          <p:nvPr/>
        </p:nvPicPr>
        <p:blipFill>
          <a:blip r:embed="rId3"/>
          <a:stretch/>
        </p:blipFill>
        <p:spPr>
          <a:xfrm>
            <a:off x="4067280" y="4005360"/>
            <a:ext cx="3716280" cy="2685960"/>
          </a:xfrm>
          <a:prstGeom prst="rect">
            <a:avLst/>
          </a:prstGeom>
          <a:ln w="0">
            <a:noFill/>
          </a:ln>
        </p:spPr>
      </p:pic>
      <p:sp>
        <p:nvSpPr>
          <p:cNvPr id="200" name="11 CuadroTexto"/>
          <p:cNvSpPr/>
          <p:nvPr/>
        </p:nvSpPr>
        <p:spPr>
          <a:xfrm>
            <a:off x="390240" y="5805360"/>
            <a:ext cx="34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Centre d´expos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La Prison-des-Patrio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10"/>
          <p:cNvSpPr/>
          <p:nvPr/>
        </p:nvSpPr>
        <p:spPr>
          <a:xfrm flipH="1" rot="1956000">
            <a:off x="5784480" y="3300120"/>
            <a:ext cx="1009800" cy="519120"/>
          </a:xfrm>
          <a:custGeom>
            <a:avLst/>
            <a:gdLst>
              <a:gd name="textAreaLeft" fmla="*/ 149400 w 1009800"/>
              <a:gd name="textAreaRight" fmla="*/ 722880 w 10098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391" hR="21600" stAng="10800000" swAng="-5400000"/>
                <a:lnTo>
                  <a:pt x="12270" y="21600"/>
                </a:lnTo>
                <a:arcTo wR="6391" hR="21600" stAng="5400000" swAng="-2395373"/>
                <a:lnTo>
                  <a:pt x="21235" y="7200"/>
                </a:lnTo>
                <a:lnTo>
                  <a:pt x="15721" y="0"/>
                </a:lnTo>
                <a:lnTo>
                  <a:pt x="9476" y="7200"/>
                </a:lnTo>
                <a:lnTo>
                  <a:pt x="12416" y="7200"/>
                </a:lnTo>
                <a:arcTo wR="6391" hR="21600" stAng="3004627" swAng="1872557"/>
                <a:lnTo>
                  <a:pt x="9330" y="19179"/>
                </a:lnTo>
                <a:arcTo wR="6391" hR="21600" stAng="5922816" swAng="4877184"/>
                <a:close/>
              </a:path>
              <a:path fill="darkenLess" w="21600" h="21600">
                <a:moveTo>
                  <a:pt x="0" y="0"/>
                </a:moveTo>
                <a:arcTo wR="6391" hR="21600" stAng="10800000" swAng="-5400000"/>
                <a:lnTo>
                  <a:pt x="12270" y="21600"/>
                </a:lnTo>
                <a:arcTo wR="6391" hR="21600" stAng="5400000" swAng="522816"/>
                <a:lnTo>
                  <a:pt x="9330" y="19179"/>
                </a:lnTo>
                <a:arcTo wR="6391" hR="21600" stAng="5922816" swAng="4877184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10"/>
          <p:cNvSpPr/>
          <p:nvPr/>
        </p:nvSpPr>
        <p:spPr>
          <a:xfrm flipH="1" flipV="1" rot="19723800">
            <a:off x="2743920" y="5144400"/>
            <a:ext cx="1204920" cy="507960"/>
          </a:xfrm>
          <a:custGeom>
            <a:avLst/>
            <a:gdLst>
              <a:gd name="textAreaLeft" fmla="*/ 200160 w 1204920"/>
              <a:gd name="textAreaRight" fmla="*/ 870120 w 120492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83" hR="21600" stAng="10800000" swAng="-5400000"/>
                <a:lnTo>
                  <a:pt x="12006" y="21600"/>
                </a:lnTo>
                <a:arcTo wR="7183" hR="21600" stAng="5400000" swAng="-2594775"/>
                <a:lnTo>
                  <a:pt x="21189" y="7200"/>
                </a:lnTo>
                <a:lnTo>
                  <a:pt x="16778" y="0"/>
                </a:lnTo>
                <a:lnTo>
                  <a:pt x="11544" y="7200"/>
                </a:lnTo>
                <a:lnTo>
                  <a:pt x="13955" y="7200"/>
                </a:lnTo>
                <a:arcTo wR="7183" hR="21600" stAng="2805225" swAng="2189217"/>
                <a:lnTo>
                  <a:pt x="9595" y="20346"/>
                </a:lnTo>
                <a:arcTo wR="7183" hR="21600" stAng="5805558" swAng="4994442"/>
                <a:close/>
              </a:path>
              <a:path fill="darkenLess" w="21600" h="21600">
                <a:moveTo>
                  <a:pt x="0" y="0"/>
                </a:moveTo>
                <a:arcTo wR="7183" hR="21600" stAng="10800000" swAng="-5400000"/>
                <a:lnTo>
                  <a:pt x="12006" y="21600"/>
                </a:lnTo>
                <a:arcTo wR="7183" hR="21600" stAng="5400000" swAng="405558"/>
                <a:lnTo>
                  <a:pt x="9595" y="20346"/>
                </a:lnTo>
                <a:arcTo wR="7183" hR="21600" stAng="5805558" swAng="4994442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0"/>
          <p:cNvSpPr/>
          <p:nvPr/>
        </p:nvSpPr>
        <p:spPr>
          <a:xfrm flipH="1">
            <a:off x="2050920" y="4005360"/>
            <a:ext cx="1441440" cy="576000"/>
          </a:xfrm>
          <a:custGeom>
            <a:avLst/>
            <a:gdLst>
              <a:gd name="textAreaLeft" fmla="*/ 245880 w 1441440"/>
              <a:gd name="textAreaRight" fmla="*/ 1042920 w 14414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70" hR="21600" stAng="10800000" swAng="-5400000"/>
                <a:lnTo>
                  <a:pt x="11944" y="21600"/>
                </a:lnTo>
                <a:arcTo wR="7370" hR="21600" stAng="5400000" swAng="-2638782"/>
                <a:lnTo>
                  <a:pt x="21179" y="7200"/>
                </a:lnTo>
                <a:lnTo>
                  <a:pt x="17026" y="0"/>
                </a:lnTo>
                <a:lnTo>
                  <a:pt x="12031" y="7200"/>
                </a:lnTo>
                <a:lnTo>
                  <a:pt x="14318" y="7200"/>
                </a:lnTo>
                <a:arcTo wR="7370" hR="21600" stAng="2761218" swAng="2257462"/>
                <a:lnTo>
                  <a:pt x="9657" y="20534"/>
                </a:lnTo>
                <a:arcTo wR="7370" hR="21600" stAng="5781320" swAng="5018680"/>
                <a:close/>
              </a:path>
              <a:path fill="darkenLess" w="21600" h="21600">
                <a:moveTo>
                  <a:pt x="0" y="0"/>
                </a:moveTo>
                <a:arcTo wR="7370" hR="21600" stAng="10800000" swAng="-5400000"/>
                <a:lnTo>
                  <a:pt x="11944" y="21600"/>
                </a:lnTo>
                <a:arcTo wR="7370" hR="21600" stAng="5400000" swAng="381320"/>
                <a:lnTo>
                  <a:pt x="9657" y="20534"/>
                </a:lnTo>
                <a:arcTo wR="7370" hR="21600" stAng="5781320" swAng="5018680"/>
                <a:close/>
              </a:path>
            </a:pathLst>
          </a:cu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fontaine 1"/>
          <p:cNvPicPr/>
          <p:nvPr/>
        </p:nvPicPr>
        <p:blipFill>
          <a:blip r:embed="rId1"/>
          <a:stretch/>
        </p:blipFill>
        <p:spPr>
          <a:xfrm rot="274800">
            <a:off x="179280" y="1052280"/>
            <a:ext cx="4546800" cy="2557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2124000" y="2133720"/>
            <a:ext cx="28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La Fontaine d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Mont-Roy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5 CuadroTexto"/>
          <p:cNvSpPr/>
          <p:nvPr/>
        </p:nvSpPr>
        <p:spPr>
          <a:xfrm>
            <a:off x="606600" y="260280"/>
            <a:ext cx="41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Verdana"/>
              </a:rPr>
              <a:t>PARCS ET JARDI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5" descr="JardinBotanique_Montreal2"/>
          <p:cNvPicPr/>
          <p:nvPr/>
        </p:nvPicPr>
        <p:blipFill>
          <a:blip r:embed="rId2"/>
          <a:stretch/>
        </p:blipFill>
        <p:spPr>
          <a:xfrm rot="21394200">
            <a:off x="5502240" y="193680"/>
            <a:ext cx="2955960" cy="3736800"/>
          </a:xfrm>
          <a:prstGeom prst="rect">
            <a:avLst/>
          </a:prstGeom>
          <a:ln w="0">
            <a:noFill/>
          </a:ln>
        </p:spPr>
      </p:pic>
      <p:sp>
        <p:nvSpPr>
          <p:cNvPr id="208" name="7 Rectángulo"/>
          <p:cNvSpPr/>
          <p:nvPr/>
        </p:nvSpPr>
        <p:spPr>
          <a:xfrm>
            <a:off x="6889680" y="18900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Jardin d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Chin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6" descr="jardin japones"/>
          <p:cNvPicPr/>
          <p:nvPr/>
        </p:nvPicPr>
        <p:blipFill>
          <a:blip r:embed="rId3"/>
          <a:stretch/>
        </p:blipFill>
        <p:spPr>
          <a:xfrm rot="21354000">
            <a:off x="245880" y="3565440"/>
            <a:ext cx="3938400" cy="2957760"/>
          </a:xfrm>
          <a:prstGeom prst="rect">
            <a:avLst/>
          </a:prstGeom>
          <a:ln w="0">
            <a:noFill/>
          </a:ln>
        </p:spPr>
      </p:pic>
      <p:sp>
        <p:nvSpPr>
          <p:cNvPr id="210" name="9 Rectángulo"/>
          <p:cNvSpPr/>
          <p:nvPr/>
        </p:nvSpPr>
        <p:spPr>
          <a:xfrm>
            <a:off x="551880" y="52293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Jardin 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Japonai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7" descr="jandin gobierno"/>
          <p:cNvPicPr/>
          <p:nvPr/>
        </p:nvPicPr>
        <p:blipFill>
          <a:blip r:embed="rId4"/>
          <a:stretch/>
        </p:blipFill>
        <p:spPr>
          <a:xfrm rot="462000">
            <a:off x="4889520" y="3760920"/>
            <a:ext cx="3805200" cy="2854080"/>
          </a:xfrm>
          <a:prstGeom prst="rect">
            <a:avLst/>
          </a:prstGeom>
          <a:ln w="0">
            <a:noFill/>
          </a:ln>
        </p:spPr>
      </p:pic>
      <p:sp>
        <p:nvSpPr>
          <p:cNvPr id="212" name="11 Rectángulo"/>
          <p:cNvSpPr/>
          <p:nvPr/>
        </p:nvSpPr>
        <p:spPr>
          <a:xfrm>
            <a:off x="6277320" y="5300640"/>
            <a:ext cx="190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Jardin 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Gouverne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8:03:54Z</dcterms:created>
  <dc:creator>Usuario</dc:creator>
  <dc:description/>
  <dc:language>en-US</dc:language>
  <cp:lastModifiedBy>Nombre</cp:lastModifiedBy>
  <dcterms:modified xsi:type="dcterms:W3CDTF">2011-04-11T21:41:09Z</dcterms:modified>
  <cp:revision>26</cp:revision>
  <dc:subject/>
  <dc:title>Diapositiva 1</dc:title>
</cp:coreProperties>
</file>